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A6C6-FE28-4254-B423-7AA141210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D83-E91F-48CF-BFB7-B83AA00C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B6E-0AB3-41B3-A0BA-9DE23AEC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8BA-C3ED-4343-82DA-224EA237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6C2-1A32-4603-BEF2-FD23F090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2FB-37DE-4299-82E6-AE99FC9F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717-3685-4CE8-B3CC-7304EDC6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C5E-53B7-433A-A22E-54EA61F0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74B-8D14-4E95-9C9C-8E6BA32D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370-D833-47A3-92FB-D8779621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337-A8D8-4EFA-BA95-375FD290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B8F-871C-405C-A4B6-31CF4F4F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56F-A697-40F9-988F-E798626A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F74F-7027-4072-938F-1AA72B124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92-11-23"/>
          <p:cNvPicPr/>
          <p:nvPr/>
        </p:nvPicPr>
        <p:blipFill>
          <a:blip r:embed="rId1"/>
          <a:srcRect l="0" t="5114" r="0" b="5114"/>
          <a:stretch/>
        </p:blipFill>
        <p:spPr>
          <a:xfrm>
            <a:off x="2700360" y="2637000"/>
            <a:ext cx="3525840" cy="4221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465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859280" y="3429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533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digestive juice 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gestive juice produ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m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(breaks down big fat droplets into little fat drop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t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184464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4653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859280" y="3429000"/>
            <a:ext cx="22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 (proteas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gluc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amy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08000" y="249228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9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mouth-open-huge307x379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amino acid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prot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79640" y="3141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6836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stomach"/>
          <p:cNvPicPr/>
          <p:nvPr/>
        </p:nvPicPr>
        <p:blipFill>
          <a:blip r:embed="rId1"/>
          <a:stretch/>
        </p:blipFill>
        <p:spPr>
          <a:xfrm>
            <a:off x="6276960" y="0"/>
            <a:ext cx="2867040" cy="2390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03280" y="314172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50312108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1989000"/>
            <a:ext cx="2736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66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35280" y="3284640"/>
            <a:ext cx="2737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tarch is a large carbohydrate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80000" y="198900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ts are made up of smaller units calle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414972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oteins are made up of one or more glucos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458136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tarch molecules can be broken down by amy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08000" y="551664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Proteins are important for the growth and repai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imentary cana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(or gut) is the tube within the body through which food passes and is processed in va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DA40_1"/>
          <p:cNvPicPr/>
          <p:nvPr/>
        </p:nvPicPr>
        <p:blipFill>
          <a:blip r:embed="rId1"/>
          <a:stretch/>
        </p:blipFill>
        <p:spPr>
          <a:xfrm>
            <a:off x="154764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059280" y="1557000"/>
            <a:ext cx="144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71640" y="981000"/>
            <a:ext cx="13701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2771640" y="2637000"/>
            <a:ext cx="20178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2556000" y="3789360"/>
            <a:ext cx="151272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3132000" y="4292640"/>
            <a:ext cx="14414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2627280" y="4076280"/>
            <a:ext cx="25210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348000" y="472392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3419640" y="530028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3419640" y="623736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83528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187280" y="1916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livary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33200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63640" y="364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76360" y="42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050920" y="450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476360" y="4941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619280" y="544500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62728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0357m30355344-9190-45c7-9cdc-c591f8b17bb5"/>
          <p:cNvPicPr/>
          <p:nvPr/>
        </p:nvPicPr>
        <p:blipFill>
          <a:blip r:embed="rId1"/>
          <a:stretch/>
        </p:blipFill>
        <p:spPr>
          <a:xfrm>
            <a:off x="539640" y="1197000"/>
            <a:ext cx="5226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116000" y="5805360"/>
            <a:ext cx="1655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08360" y="5877000"/>
            <a:ext cx="1943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716360" y="5084640"/>
            <a:ext cx="1943280" cy="9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971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4720" y="50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227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aliva is mixed with food during ch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227640" y="1484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eeth assist the mechanical breakdow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56360" y="37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omic Sans MS"/>
              </a:rPr>
              <a:t>Saliva contains the enzyme amylase which starts the diges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56360" y="5229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Saliva contains mucus that keeps the mouth moist and lubricates food for easier swa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38036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38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7380360" y="465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0:46:45Z</dcterms:created>
  <dc:creator>Carol Crawford</dc:creator>
  <dc:description/>
  <dc:language>en-US</dc:language>
  <cp:lastModifiedBy>LEGION2</cp:lastModifiedBy>
  <dcterms:modified xsi:type="dcterms:W3CDTF">2016-01-13T13:13:02Z</dcterms:modified>
  <cp:revision>17</cp:revision>
  <dc:subject/>
  <dc:title>Alimentary Canal</dc:title>
</cp:coreProperties>
</file>